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9067602"/>
        <c:axId val="49744565"/>
      </c:barChart>
      <c:catAx>
        <c:axId val="8906760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744565"/>
        <c:crosses val="autoZero"/>
        <c:auto val="1"/>
        <c:lblAlgn val="ctr"/>
        <c:lblOffset val="100"/>
        <c:noMultiLvlLbl val="0"/>
      </c:catAx>
      <c:valAx>
        <c:axId val="4974456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06760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1FF2F-FA2E-46F1-873B-D41B34751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A9A10-1301-4CDD-A943-FACF9CFC6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8D2D2-8605-4BB8-8C20-291114375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9399F-6DC0-4499-B02B-C268035F5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5F0B3-C18B-485C-9C43-FC8486826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C2EFE-26BC-4163-8362-CC0E8C529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62C4C-DD52-4CB0-A12E-E5572365C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57B84-77DA-4147-AEC4-A94867DD0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954BE-D286-407A-AEA4-4652B8B2E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96152-AF06-43BB-A793-E6B9AF467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C1609-94DB-45EB-997E-C42B3D6E9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C046D-1A33-4689-99DC-894DE518E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08DBCA-EFB6-4588-8D89-F5E74218B53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