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513839"/>
        <c:axId val="19656507"/>
      </c:barChart>
      <c:catAx>
        <c:axId val="88513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56507"/>
        <c:crosses val="autoZero"/>
        <c:auto val="1"/>
        <c:lblAlgn val="ctr"/>
        <c:lblOffset val="100"/>
        <c:noMultiLvlLbl val="0"/>
      </c:catAx>
      <c:valAx>
        <c:axId val="196565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13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78D-FD0F-4D2B-86C4-34D784A9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E31-61CA-414A-8403-827F5CB7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0054-43D3-47A6-A729-96C3C1EB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AED-7E89-4F67-8BE2-02F46BA8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6C6E-767A-4D94-9D4B-585AE1D1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BBEE-EC91-4CDE-89E2-E1DC2A79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326-27BE-4F5F-B034-80B65B98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8E35-479B-4D87-B278-5AB5ECFF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A98-A021-423F-84ED-7C0BFB41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AA3-2ED1-44B6-B34A-1A644E36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7E1-0F51-46AA-B72F-BEE857A2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AFE-99AC-4E43-814B-8409EC64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1B4FC-673B-4482-84EC-0851C8329A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